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5B2C-9A2D-4519-B7F4-3FD464C9F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43E3-59CD-49C7-A02B-1B75AE8F7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E024-DE8F-4A95-8819-0C1016E63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B7E0-9D78-482C-B926-1C1E1665C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20A4-33DD-45C4-87C3-7A3A2D805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4E03-B3A5-4C5B-9C4E-84B33B6D3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D6F-AEA4-44FD-B3DD-9CB4F3DA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DA9A-B0F8-45E4-B0C4-EF75CD8B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3E7-5890-450E-A40D-ED976FCF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76B-19BA-459A-B3B1-2948CD11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02F6-4935-4ADE-91DA-AF42C059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CF31-983E-4B0E-B150-B56DEA28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A83E-A7A2-468B-BCFA-17C99D69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6681-5DFE-4B2C-9F58-C5C0A947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27B1-D6ED-4962-8802-DDAE3756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FE18-16D4-4D5F-9466-C0ECF746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1CC2-0DFF-4E9C-9A9F-8C90D71B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ADA6-1CA2-46C7-8133-6B4BD127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13B2-94B6-4C7E-B3C1-C487D00D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6F52-172D-404D-815F-9F575477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7720-ABE7-4E42-B68F-974D4EA4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5465-1436-431C-A1C8-413C81B0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2448-6E95-48A3-A5F4-A48134A0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88B5-4CDC-40DB-BCE4-6CCFF834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C1E3-144D-4380-9965-C0C67978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081-FF4E-4DC8-82D4-EE29FD65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09C-A097-4275-955E-2A133AD9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450-95BD-4995-914E-155077B7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284-BB54-4C3F-9774-7C61C6A4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C114-F65D-4A22-86E4-7F05EF54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EB0E-47C6-4463-8110-3965B6E0B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Overall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3E04538-BC81-467A-BE1C-E6E8FE4A02F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Overall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1D70905-AE17-4DE8-A990-E7739560473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8136-1E2B-4B1D-A2AF-6AAA7DC19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0" y="2205000"/>
            <a:ext cx="9144000" cy="1657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ff"/>
                </a:solidFill>
                <a:latin typeface="Arial"/>
                <a:ea typeface="Verdana"/>
              </a:rPr>
              <a:t>Coordenação Ge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720" y="130320"/>
            <a:ext cx="85899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Definir os canais de informação durante as operações de resposta à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municar regularmente com a imprensa nacional e internacio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 nível local, com a ajuda de parceiros internacionais, criar uma comissão de coordenação técnica e científica internacional para coordenar as medidas de controlo da epidemia que será responsável pela organização das actividades diárias das equipas no terren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reuniões de coordenação e monitorizar as oper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a coordenação com os serviços responsáveis pela saúde animal na vida selv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arques na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erviços veterin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segurar uma rotação regular do pessoal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F:\Ebola July 2014 documents_YZ\SLE EBOLA RESPONSE PHOTO LIBRARY\7   Sierra Leone Ebola_Photo credit_WHO Saffea Gborie.jpg"/>
          <p:cNvPicPr/>
          <p:nvPr/>
        </p:nvPicPr>
        <p:blipFill>
          <a:blip r:embed="rId1"/>
          <a:stretch/>
        </p:blipFill>
        <p:spPr>
          <a:xfrm>
            <a:off x="4444920" y="2073240"/>
            <a:ext cx="4407120" cy="2940120"/>
          </a:xfrm>
          <a:prstGeom prst="rect">
            <a:avLst/>
          </a:prstGeom>
          <a:ln w="0">
            <a:noFill/>
          </a:ln>
        </p:spPr>
      </p:pic>
      <p:sp>
        <p:nvSpPr>
          <p:cNvPr id="120" name="Title 1"/>
          <p:cNvSpPr/>
          <p:nvPr/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Evitar a aplicação de medidas restritivas, de acordo com o RSI (200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r o fim do relatóri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écnico, Administrativo, Financeiro e Log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o impacto económico e social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a gestã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Com base nas experiências adquiridas, fazer recomendações para a prevenção e gestão de futuras epidemi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xemplo de um EOC/IMC de EV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4929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365040" y="981000"/>
            <a:ext cx="7907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Operacionalização do EOC/I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7300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dentificar e nomear pessoal para diferentes áreas temá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riar o espaço para o E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Desenvolver termos de referência e actividades prioritárias para orientar o trabalho de cada área temática (Grupo de Acção do Ébola: ETF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locar pessoal, desenvolver listas de materiais e necessidades financeiras, assim como um plano operacional com objectivos definidos (grupos de áreas temátic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Rever e aprovar os planos operacionais (ETF) e os recursos necessá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Nomear parceiros técnicos para as várias áreas temáticas com base nas suas competên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2708280"/>
            <a:ext cx="7772400" cy="1362240"/>
          </a:xfrm>
          <a:prstGeom prst="rect">
            <a:avLst/>
          </a:prstGeom>
          <a:solidFill>
            <a:srgbClr val="7575d1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COMISSÃO DE COORDENAÇÃO LOCAL (DISTR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01600"/>
            <a:ext cx="8856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strutura da Comissão de Coordenação Lo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CCL está dividida em subcomissões que reflectem os princípios básicos de combate à EVD, nomeada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Vigilância e laborató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estão de casos e controlo de infec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obilização social e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oio psicos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ogística e 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F:\Ebola July 2014 documents_YZ\SLE EBOLA RESPONSE PHOTO LIBRARY\12 WHO Mobile lab equipment for Kailahun ebola outbreak_WHO Saffea Gborie.jpg"/>
          <p:cNvPicPr/>
          <p:nvPr/>
        </p:nvPicPr>
        <p:blipFill>
          <a:blip r:embed="rId1"/>
          <a:stretch/>
        </p:blipFill>
        <p:spPr>
          <a:xfrm>
            <a:off x="4648320" y="2276640"/>
            <a:ext cx="43974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820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Comissão de Coordenação Local: Composi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esidente do Conselho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édico-assistente local / Equipa de Gestão da 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selheiros, Técnicos Distri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hefes supr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hefes de Depart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hefes de Agências de 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resentante das Organizações da Sociedade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íderes Religio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ções Internacionais, Nacionais e Parceiros Locais (OMS, CDC, MSF, ONG, Organizações com base na Comunidade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578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Comissão de Coordenação Local: Pap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ordena todos os aspectos de coordenação da resposta no terreno de acordo com as directivas da comissão nacional de 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voca reuniões diárias para coordenar a resposta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obiliza e aloca recursos para a resposta a su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oduz relatórios de situação diários e comunica com a comissão nacional de 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aliza quaisquer outras funções atribuídas pela comissão nacional de 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t-PT" sz="4400" spc="-1" strike="noStrike">
                <a:solidFill>
                  <a:srgbClr val="ffffff"/>
                </a:solidFill>
                <a:latin typeface="Arial"/>
              </a:rPr>
              <a:t>Obrigad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Os Ministros da Saúde e outros líderes sanitários devem assumir um papel de liderança proeminente na coordenação e implementação das medidas de resposta de emergência ao Ébola…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claração da Directora-Geral da OMS na Reunião da Comissão de Emergência do RSI relativamente ao Surto do Ébola na África Ocidental de 2014. 8 de Agosto de 21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0000"/>
                </a:solidFill>
                <a:latin typeface="Arial"/>
              </a:rPr>
              <a:t>Objectivos da Sessã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844640"/>
            <a:ext cx="8686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Objectivo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o final da sessão, os participantes devem dominar a coordenação da preparação e resposta à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0000"/>
                </a:solidFill>
                <a:latin typeface="Arial"/>
              </a:rPr>
              <a:t>Objectivos da Sessão (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560" y="1268280"/>
            <a:ext cx="8893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Objectivos Intermé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alçar o papel da commissão de coordenação sobre a preparação e resposta ao surto de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screver a composição e termos de referência da comissão de coorden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sumir as actividades da comissão de coordenação a nível distrital (lo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Fornecer um exemplo de um EOC/I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9664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oordenação multissecto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omissão nacional de coordenação l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Composi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apé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Exemplo de EOC/I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omissão de Coordenação Local (Distrital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Composi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apéis e taref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ordenação: Estratégia multidiscipl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49440" y="1114560"/>
            <a:ext cx="66945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strutura da Comissão Nacional de Coordenação (ET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Content Placeholder 4" descr=""/>
          <p:cNvPicPr/>
          <p:nvPr/>
        </p:nvPicPr>
        <p:blipFill>
          <a:blip r:embed="rId1"/>
          <a:stretch/>
        </p:blipFill>
        <p:spPr>
          <a:xfrm>
            <a:off x="450720" y="1603440"/>
            <a:ext cx="82425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2196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omissão Nacional de Coordenação: Composiçã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liderança nacional é da máxima importância e a composição pode variar de país para país, mas é essencialme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scritório do Presidente;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érios da Saúde, Finanças, Agricultura, Veterinário, Serviços Sociais, Educação e Defesa, etc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arceiros internacionais e locais: por exemplo, OMS, MSF, CDC, UNICEF, USAID, FAO, IEO, Cruz Vermelha/Crescente Vermelho, IFRC, etc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upos de interesses especiais: indústrias extractivas (mineira, petrolífera, madeira), turismo, companhias aéreas, etc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219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apel da Comissão Nacional de Coorden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papel da comissão é assegurar a coordenação geral das operações, actividades de prevenção e controlo de epidemias e mobilização de recurso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Aprovar as estratégias de controlo da epidemia do Ébola recomendadas pela 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senvolver um plano de acção detalhado para a resposta à epid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finir as responsabilidades das diferentes equipas no terre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Organizar a mobilização de recursos em colaboração com os parcei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User</cp:lastModifiedBy>
  <cp:lastPrinted>2013-10-01T07:19:12Z</cp:lastPrinted>
  <dcterms:modified xsi:type="dcterms:W3CDTF">2014-11-29T16:39:34Z</dcterms:modified>
  <cp:revision>234</cp:revision>
  <dc:subject/>
  <dc:title>DPC Training and Technical Update</dc:title>
</cp:coreProperties>
</file>